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986-7AE5-4D8C-845B-1B06A11C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246-169B-42C7-969C-E71926D9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D4C-691C-4B27-8659-1E05BB7D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BAD-5D95-41EF-8371-680A67AE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B661-E5CC-4591-983A-4A296733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4FFD-34DD-4C3F-8F80-3BF9F3D4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408E-6DCD-4B09-8F12-D65E5E2F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A874-467B-4E31-8123-93941660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1D6B-A328-4153-BB5C-CA2D3959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5AE9-E5D7-42FF-958E-BEBE1FD6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3851-7461-47BF-A4C7-6A91F50A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7F6-D708-4F3E-BCF6-FC25A10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C865-DF13-4C2D-AD30-E4BF2D25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7412-0E36-4418-90DB-FC8CF64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6FD9-1042-414C-AACC-81BBF3BA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12F5-4969-4C84-A6FA-7411ABD5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70D4-0F3E-4B6D-B4E4-C6A7C101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AA6-17AD-4372-ADE1-D7AE40ED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6DE-93DC-4178-9D1A-C53BCC5C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397-ACC5-49DE-84BF-A282FF6B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96D-C4DD-4315-8BCE-C6C1DBF4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0E8-2E70-4619-8E3C-9BD5186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9C9-0E1B-497F-BF87-BE55FF3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83F-63C8-4176-95CB-7B530E8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:\Cartoons\People2\LC15132C.WMF"/>
          <p:cNvPicPr/>
          <p:nvPr/>
        </p:nvPicPr>
        <p:blipFill>
          <a:blip r:embed="rId2"/>
          <a:stretch/>
        </p:blipFill>
        <p:spPr>
          <a:xfrm>
            <a:off x="5195880" y="4827600"/>
            <a:ext cx="3948120" cy="203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cc0000"/>
                </a:solidFill>
                <a:latin typeface="Chas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3C2DD-923E-448F-A676-54327B5793D0}" type="datetime">
              <a:rPr b="0" lang="en-US" sz="1400" spc="-1" strike="noStrike">
                <a:solidFill>
                  <a:srgbClr val="cc0000"/>
                </a:solidFill>
                <a:latin typeface="Chasm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cc0000"/>
                </a:solidFill>
                <a:latin typeface="Chas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72EE7-CDB5-40BF-93C4-A9F4C693D88B}" type="slidenum">
              <a:rPr b="0" lang="en-US" sz="1400" spc="-1" strike="noStrike">
                <a:solidFill>
                  <a:srgbClr val="cc0000"/>
                </a:solidFill>
                <a:latin typeface="Chas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:\Cartoons\People2\LC15113C.WMF"/>
          <p:cNvPicPr/>
          <p:nvPr/>
        </p:nvPicPr>
        <p:blipFill>
          <a:blip r:embed="rId3"/>
          <a:stretch/>
        </p:blipFill>
        <p:spPr>
          <a:xfrm>
            <a:off x="0" y="5062680"/>
            <a:ext cx="1905120" cy="17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E:\Cartoons\People2\LC15129C.WMF"/>
          <p:cNvPicPr/>
          <p:nvPr/>
        </p:nvPicPr>
        <p:blipFill>
          <a:blip r:embed="rId2"/>
          <a:stretch/>
        </p:blipFill>
        <p:spPr>
          <a:xfrm>
            <a:off x="7021440" y="0"/>
            <a:ext cx="2122560" cy="228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44" name="Picture 11" descr="E:\Cartoons\People2\LC15102C.WMF"/>
          <p:cNvPicPr/>
          <p:nvPr/>
        </p:nvPicPr>
        <p:blipFill>
          <a:blip r:embed="rId3"/>
          <a:stretch/>
        </p:blipFill>
        <p:spPr>
          <a:xfrm>
            <a:off x="0" y="3262320"/>
            <a:ext cx="3675240" cy="3595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45" name="Picture 12" descr="E:\Cartoons\People2\LC15090C.WMF"/>
          <p:cNvPicPr/>
          <p:nvPr/>
        </p:nvPicPr>
        <p:blipFill>
          <a:blip r:embed="rId4"/>
          <a:stretch/>
        </p:blipFill>
        <p:spPr>
          <a:xfrm>
            <a:off x="6400800" y="4152960"/>
            <a:ext cx="2743200" cy="2705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con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ird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our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4" marL="2036520" indent="-226080">
              <a:spcBef>
                <a:spcPts val="799"/>
              </a:spcBef>
              <a:buClr>
                <a:srgbClr val="cc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Fif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ix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has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Seventh Outline Level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Chas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F2D52-CF27-413C-8775-1ADF5642D54C}" type="datetime">
              <a:rPr b="0" lang="en-US" sz="1400" spc="-1" strike="noStrike">
                <a:solidFill>
                  <a:srgbClr val="000000"/>
                </a:solidFill>
                <a:latin typeface="Chasm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Chas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BAFC4-A0FC-4075-946E-C2AEA4F6546A}" type="slidenum">
              <a:rPr b="0" lang="en-US" sz="1400" spc="-1" strike="noStrike">
                <a:solidFill>
                  <a:srgbClr val="000000"/>
                </a:solidFill>
                <a:latin typeface="Chas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647676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Session 2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5600" y="2901600"/>
            <a:ext cx="6548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Planning for Instruction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281160"/>
            <a:ext cx="7772400" cy="58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Analyz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distinguish between the different parts?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ppraise, compare, contrast, criticize, differentiate, discriminate, distinguish, examine, experiment, question, test.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Evaluat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justify a stand or decision?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ppraise, argue, defend, judge, select, support, value, evaluate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Creat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create new product or point of view?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assemble, construct, create, design, develop, formulate, write.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9" name="Action Button: Custom 3"/>
          <p:cNvSpPr/>
          <p:nvPr/>
        </p:nvSpPr>
        <p:spPr>
          <a:xfrm>
            <a:off x="7108920" y="5773680"/>
            <a:ext cx="477720" cy="322200"/>
          </a:xfrm>
          <a:custGeom>
            <a:avLst/>
            <a:gdLst>
              <a:gd name="textAreaLeft" fmla="*/ 20880 w 477720"/>
              <a:gd name="textAreaRight" fmla="*/ 456840 w 4777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2014" h="21600">
                <a:moveTo>
                  <a:pt x="0" y="0"/>
                </a:moveTo>
                <a:lnTo>
                  <a:pt x="32014" y="0"/>
                </a:lnTo>
                <a:lnTo>
                  <a:pt x="32014" y="21600"/>
                </a:lnTo>
                <a:lnTo>
                  <a:pt x="0" y="21600"/>
                </a:lnTo>
                <a:close/>
              </a:path>
              <a:path fill="lightenLess" w="32014" h="21600">
                <a:moveTo>
                  <a:pt x="0" y="0"/>
                </a:moveTo>
                <a:lnTo>
                  <a:pt x="32014" y="0"/>
                </a:lnTo>
                <a:lnTo>
                  <a:pt x="30614" y="1400"/>
                </a:lnTo>
                <a:lnTo>
                  <a:pt x="1400" y="1400"/>
                </a:lnTo>
                <a:close/>
              </a:path>
              <a:path fill="darken" w="32014" h="21600">
                <a:moveTo>
                  <a:pt x="32014" y="0"/>
                </a:moveTo>
                <a:lnTo>
                  <a:pt x="32014" y="21600"/>
                </a:lnTo>
                <a:lnTo>
                  <a:pt x="30614" y="20200"/>
                </a:lnTo>
                <a:lnTo>
                  <a:pt x="30614" y="1400"/>
                </a:lnTo>
                <a:close/>
              </a:path>
              <a:path fill="darkenLess" w="32014" h="21600">
                <a:moveTo>
                  <a:pt x="32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14" y="20200"/>
                </a:lnTo>
                <a:close/>
              </a:path>
              <a:path fill="lighten" w="32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2fff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Alignment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Instruction with state and local standards in methods, materials, and assignments.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e instruction and the evaluation based on the objectives. (Curriculum Alignment)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12" name="Action Button: Custom 3"/>
          <p:cNvSpPr/>
          <p:nvPr/>
        </p:nvSpPr>
        <p:spPr>
          <a:xfrm>
            <a:off x="7142040" y="6095880"/>
            <a:ext cx="511200" cy="320760"/>
          </a:xfrm>
          <a:custGeom>
            <a:avLst/>
            <a:gdLst>
              <a:gd name="textAreaLeft" fmla="*/ 20520 w 511200"/>
              <a:gd name="textAreaRight" fmla="*/ 490680 w 511200"/>
              <a:gd name="textAreaTop" fmla="*/ 20520 h 320760"/>
              <a:gd name="textAreaBottom" fmla="*/ 300240 h 320760"/>
            </a:gdLst>
            <a:ahLst/>
            <a:rect l="textAreaLeft" t="textAreaTop" r="textAreaRight" b="textAreaBottom"/>
            <a:pathLst>
              <a:path w="34410" h="21600">
                <a:moveTo>
                  <a:pt x="0" y="0"/>
                </a:moveTo>
                <a:lnTo>
                  <a:pt x="34410" y="0"/>
                </a:lnTo>
                <a:lnTo>
                  <a:pt x="34410" y="21600"/>
                </a:lnTo>
                <a:lnTo>
                  <a:pt x="0" y="21600"/>
                </a:lnTo>
                <a:close/>
              </a:path>
              <a:path fill="lightenLess" w="34410" h="21600">
                <a:moveTo>
                  <a:pt x="0" y="0"/>
                </a:moveTo>
                <a:lnTo>
                  <a:pt x="34410" y="0"/>
                </a:lnTo>
                <a:lnTo>
                  <a:pt x="33010" y="1400"/>
                </a:lnTo>
                <a:lnTo>
                  <a:pt x="1400" y="1400"/>
                </a:lnTo>
                <a:close/>
              </a:path>
              <a:path fill="darken" w="34410" h="21600">
                <a:moveTo>
                  <a:pt x="34410" y="0"/>
                </a:moveTo>
                <a:lnTo>
                  <a:pt x="34410" y="21600"/>
                </a:lnTo>
                <a:lnTo>
                  <a:pt x="33010" y="20200"/>
                </a:lnTo>
                <a:lnTo>
                  <a:pt x="33010" y="1400"/>
                </a:lnTo>
                <a:close/>
              </a:path>
              <a:path fill="darkenLess" w="34410" h="21600">
                <a:moveTo>
                  <a:pt x="34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10" y="20200"/>
                </a:lnTo>
                <a:close/>
              </a:path>
              <a:path fill="lighten" w="34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2fff0"/>
          </a:solidFill>
          <a:ln w="9360">
            <a:solidFill>
              <a:srgbClr val="c2fff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Backward Design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49160"/>
            <a:ext cx="777240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Innovative Approach to Planning based on the work of Grant Wiggins and Jay McTighe (Understanding by Design) UbD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Three Main Stages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Desired results (big ideas, enduring understandings, essential questions) 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281160"/>
            <a:ext cx="7772400" cy="58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Assessment evidence (How will students demonstrate what they have learned or can do)?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Learning Activities (What opportunities will the student have to learn)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Planning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Vital and basic skill for effective teaching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Helps you feel organized and prepared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Is only a guide: not carved in stone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Allows for review of and reflection on lesson.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How Do I start Planning a Unit?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Gather and locate all resources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Such as State Standard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Textbook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Media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Technology Resource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Trade Book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Community Resource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Etc…..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9807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Look at the textbook…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Decide on your goals and objectives…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Alignment…..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Backward Design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Now Begin the unit…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95" name="Action Button: Custom 9"/>
          <p:cNvSpPr/>
          <p:nvPr/>
        </p:nvSpPr>
        <p:spPr>
          <a:xfrm>
            <a:off x="281160" y="2771640"/>
            <a:ext cx="404640" cy="263520"/>
          </a:xfrm>
          <a:custGeom>
            <a:avLst/>
            <a:gdLst>
              <a:gd name="textAreaLeft" fmla="*/ 16920 w 404640"/>
              <a:gd name="textAreaRight" fmla="*/ 387720 w 40464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3151" h="21600">
                <a:moveTo>
                  <a:pt x="0" y="0"/>
                </a:moveTo>
                <a:lnTo>
                  <a:pt x="33151" y="0"/>
                </a:lnTo>
                <a:lnTo>
                  <a:pt x="33151" y="21600"/>
                </a:lnTo>
                <a:lnTo>
                  <a:pt x="0" y="21600"/>
                </a:lnTo>
                <a:close/>
              </a:path>
              <a:path fill="lightenLess" w="33151" h="21600">
                <a:moveTo>
                  <a:pt x="0" y="0"/>
                </a:moveTo>
                <a:lnTo>
                  <a:pt x="33151" y="0"/>
                </a:lnTo>
                <a:lnTo>
                  <a:pt x="31751" y="1400"/>
                </a:lnTo>
                <a:lnTo>
                  <a:pt x="1400" y="1400"/>
                </a:lnTo>
                <a:close/>
              </a:path>
              <a:path fill="darken" w="33151" h="21600">
                <a:moveTo>
                  <a:pt x="33151" y="0"/>
                </a:moveTo>
                <a:lnTo>
                  <a:pt x="33151" y="21600"/>
                </a:lnTo>
                <a:lnTo>
                  <a:pt x="31751" y="20200"/>
                </a:lnTo>
                <a:lnTo>
                  <a:pt x="31751" y="1400"/>
                </a:lnTo>
                <a:close/>
              </a:path>
              <a:path fill="darkenLess" w="33151" h="21600">
                <a:moveTo>
                  <a:pt x="33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51" y="20200"/>
                </a:lnTo>
                <a:close/>
              </a:path>
              <a:path fill="lighten" w="33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0000"/>
          </a:solidFill>
          <a:ln w="9360">
            <a:solidFill>
              <a:srgbClr val="b9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ction Button: Custom 11">
            <a:hlinkClick r:id="" action="ppaction://hlinkshowjump?jump=nextslide"/>
          </p:cNvPr>
          <p:cNvSpPr/>
          <p:nvPr/>
        </p:nvSpPr>
        <p:spPr>
          <a:xfrm>
            <a:off x="281160" y="2209680"/>
            <a:ext cx="404640" cy="265320"/>
          </a:xfrm>
          <a:custGeom>
            <a:avLst/>
            <a:gdLst>
              <a:gd name="textAreaLeft" fmla="*/ 16920 w 404640"/>
              <a:gd name="textAreaRight" fmla="*/ 387720 w 40464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32927" h="21600">
                <a:moveTo>
                  <a:pt x="0" y="0"/>
                </a:moveTo>
                <a:lnTo>
                  <a:pt x="32927" y="0"/>
                </a:lnTo>
                <a:lnTo>
                  <a:pt x="32927" y="21600"/>
                </a:lnTo>
                <a:lnTo>
                  <a:pt x="0" y="21600"/>
                </a:lnTo>
                <a:close/>
              </a:path>
              <a:path fill="lightenLess" w="32927" h="21600">
                <a:moveTo>
                  <a:pt x="0" y="0"/>
                </a:moveTo>
                <a:lnTo>
                  <a:pt x="32927" y="0"/>
                </a:lnTo>
                <a:lnTo>
                  <a:pt x="31527" y="1400"/>
                </a:lnTo>
                <a:lnTo>
                  <a:pt x="1400" y="1400"/>
                </a:lnTo>
                <a:close/>
              </a:path>
              <a:path fill="darken" w="32927" h="21600">
                <a:moveTo>
                  <a:pt x="32927" y="0"/>
                </a:moveTo>
                <a:lnTo>
                  <a:pt x="32927" y="21600"/>
                </a:lnTo>
                <a:lnTo>
                  <a:pt x="31527" y="20200"/>
                </a:lnTo>
                <a:lnTo>
                  <a:pt x="31527" y="1400"/>
                </a:lnTo>
                <a:close/>
              </a:path>
              <a:path fill="darkenLess" w="32927" h="21600">
                <a:moveTo>
                  <a:pt x="329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27" y="20200"/>
                </a:lnTo>
                <a:close/>
              </a:path>
              <a:path fill="lighten" w="329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0000"/>
          </a:solidFill>
          <a:ln w="9360">
            <a:solidFill>
              <a:srgbClr val="b9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ction Button: Custom 12"/>
          <p:cNvSpPr/>
          <p:nvPr/>
        </p:nvSpPr>
        <p:spPr>
          <a:xfrm>
            <a:off x="281160" y="3365640"/>
            <a:ext cx="404640" cy="296640"/>
          </a:xfrm>
          <a:custGeom>
            <a:avLst/>
            <a:gdLst>
              <a:gd name="textAreaLeft" fmla="*/ 19080 w 404640"/>
              <a:gd name="textAreaRight" fmla="*/ 385560 w 404640"/>
              <a:gd name="textAreaTop" fmla="*/ 19080 h 296640"/>
              <a:gd name="textAreaBottom" fmla="*/ 277560 h 29664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0000"/>
          </a:solidFill>
          <a:ln w="9360">
            <a:solidFill>
              <a:srgbClr val="b9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ction Button: Custom 13"/>
          <p:cNvSpPr/>
          <p:nvPr/>
        </p:nvSpPr>
        <p:spPr>
          <a:xfrm>
            <a:off x="281160" y="3951360"/>
            <a:ext cx="404640" cy="345960"/>
          </a:xfrm>
          <a:custGeom>
            <a:avLst/>
            <a:gdLst>
              <a:gd name="textAreaLeft" fmla="*/ 22320 w 404640"/>
              <a:gd name="textAreaRight" fmla="*/ 382320 w 4046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5260" h="21600">
                <a:moveTo>
                  <a:pt x="0" y="0"/>
                </a:moveTo>
                <a:lnTo>
                  <a:pt x="25260" y="0"/>
                </a:lnTo>
                <a:lnTo>
                  <a:pt x="25260" y="21600"/>
                </a:lnTo>
                <a:lnTo>
                  <a:pt x="0" y="21600"/>
                </a:lnTo>
                <a:close/>
              </a:path>
              <a:path fill="lightenLess" w="25260" h="21600">
                <a:moveTo>
                  <a:pt x="0" y="0"/>
                </a:moveTo>
                <a:lnTo>
                  <a:pt x="25260" y="0"/>
                </a:lnTo>
                <a:lnTo>
                  <a:pt x="23860" y="1400"/>
                </a:lnTo>
                <a:lnTo>
                  <a:pt x="1400" y="1400"/>
                </a:lnTo>
                <a:close/>
              </a:path>
              <a:path fill="darken" w="25260" h="21600">
                <a:moveTo>
                  <a:pt x="25260" y="0"/>
                </a:moveTo>
                <a:lnTo>
                  <a:pt x="25260" y="21600"/>
                </a:lnTo>
                <a:lnTo>
                  <a:pt x="23860" y="20200"/>
                </a:lnTo>
                <a:lnTo>
                  <a:pt x="23860" y="1400"/>
                </a:lnTo>
                <a:close/>
              </a:path>
              <a:path fill="darkenLess" w="25260" h="21600">
                <a:moveTo>
                  <a:pt x="25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0" y="20200"/>
                </a:lnTo>
                <a:close/>
              </a:path>
              <a:path fill="lighten" w="25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90000"/>
          </a:solidFill>
          <a:ln w="9360">
            <a:solidFill>
              <a:srgbClr val="b9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66500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Should every unit get major emphasis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Are there some you can “skim” to enable more time for others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What activities are recommended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What other activities can you imagine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Textbook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428760"/>
            <a:ext cx="77724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hasm"/>
              </a:rPr>
              <a:t>Be prepared to change things…..</a:t>
            </a:r>
            <a:endParaRPr b="0" lang="en-US" sz="32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If the student’s lack the prior knowledge for a unit, what do you need to do?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hasm"/>
              </a:rPr>
              <a:t>Plan to use some instructional strategies to find out what they know, such as KWL charts, concept mapping, etc..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2" name="Action Button: Custom 3"/>
          <p:cNvSpPr/>
          <p:nvPr/>
        </p:nvSpPr>
        <p:spPr>
          <a:xfrm>
            <a:off x="7102440" y="5919840"/>
            <a:ext cx="550800" cy="352440"/>
          </a:xfrm>
          <a:custGeom>
            <a:avLst/>
            <a:gdLst>
              <a:gd name="textAreaLeft" fmla="*/ 22680 w 550800"/>
              <a:gd name="textAreaRight" fmla="*/ 528120 w 550800"/>
              <a:gd name="textAreaTop" fmla="*/ 22680 h 352440"/>
              <a:gd name="textAreaBottom" fmla="*/ 329760 h 352440"/>
            </a:gdLst>
            <a:ahLst/>
            <a:rect l="textAreaLeft" t="textAreaTop" r="textAreaRight" b="textAreaBottom"/>
            <a:pathLst>
              <a:path w="33744" h="21600">
                <a:moveTo>
                  <a:pt x="0" y="0"/>
                </a:moveTo>
                <a:lnTo>
                  <a:pt x="33744" y="0"/>
                </a:lnTo>
                <a:lnTo>
                  <a:pt x="33744" y="21600"/>
                </a:lnTo>
                <a:lnTo>
                  <a:pt x="0" y="21600"/>
                </a:lnTo>
                <a:close/>
              </a:path>
              <a:path fill="lightenLess" w="33744" h="21600">
                <a:moveTo>
                  <a:pt x="0" y="0"/>
                </a:moveTo>
                <a:lnTo>
                  <a:pt x="33744" y="0"/>
                </a:lnTo>
                <a:lnTo>
                  <a:pt x="32345" y="1400"/>
                </a:lnTo>
                <a:lnTo>
                  <a:pt x="1400" y="1400"/>
                </a:lnTo>
                <a:close/>
              </a:path>
              <a:path fill="darken" w="33744" h="21600">
                <a:moveTo>
                  <a:pt x="33744" y="0"/>
                </a:moveTo>
                <a:lnTo>
                  <a:pt x="33744" y="21600"/>
                </a:lnTo>
                <a:lnTo>
                  <a:pt x="32345" y="20200"/>
                </a:lnTo>
                <a:lnTo>
                  <a:pt x="32345" y="1400"/>
                </a:lnTo>
                <a:close/>
              </a:path>
              <a:path fill="darkenLess" w="33744" h="21600">
                <a:moveTo>
                  <a:pt x="33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5" y="20200"/>
                </a:lnTo>
                <a:close/>
              </a:path>
              <a:path fill="lighten" w="33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2fff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65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Goals and Objectives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022400"/>
            <a:ext cx="77724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oals are broad statements of educational intent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475200" indent="-1828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.g. To know the three theories pertaining to the extinction of the dinosaurs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219240" indent="-219240">
              <a:lnSpc>
                <a:spcPct val="100000"/>
              </a:lnSpc>
              <a:spcBef>
                <a:spcPts val="1749"/>
              </a:spcBef>
              <a:buClr>
                <a:srgbClr val="b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</a:rPr>
              <a:t>Objectives are</a:t>
            </a:r>
            <a:r>
              <a:rPr b="1" lang="en-US" sz="2800" spc="-1" strike="noStrike">
                <a:solidFill>
                  <a:srgbClr val="b90000"/>
                </a:solidFill>
                <a:latin typeface="Chasm"/>
              </a:rPr>
              <a:t> </a:t>
            </a:r>
            <a:r>
              <a:rPr b="1" lang="en-US" sz="2800" spc="-1" strike="noStrike">
                <a:solidFill>
                  <a:srgbClr val="b90000"/>
                </a:solidFill>
                <a:latin typeface="Arial"/>
              </a:rPr>
              <a:t>the educational outcome defined in behavioral terms</a:t>
            </a: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475200" indent="-1828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.g. Given a list of dinosaurs, students will be able to arrange them in their various groups with 80% accuracy.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475200" indent="-1828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219240" indent="-21924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Chasm"/>
            </a:endParaRPr>
          </a:p>
          <a:p>
            <a:pPr lvl="1" marL="475200" indent="-18288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219240" indent="-2192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hasm"/>
              </a:rPr>
              <a:t>Blooms Taxonomy</a:t>
            </a:r>
            <a:endParaRPr b="0" lang="en-US" sz="4400" spc="-1" strike="noStrike">
              <a:solidFill>
                <a:srgbClr val="cc0000"/>
              </a:solidFill>
              <a:latin typeface="Chasm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51160" y="1752480"/>
            <a:ext cx="41306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Reme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App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2d2db9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Comic Sans MS"/>
              </a:rPr>
              <a:t>C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297000"/>
            <a:ext cx="7772400" cy="57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Remember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recall or remember the information?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define, duplicate, list, memorize, recall, repeat, reproduce state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Understand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explain ideas or concepts?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lassify, describe, discuss, explain, identify, locate, recognize, report, select, translate, paraphrase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hasm"/>
              </a:rPr>
              <a:t>Applying: </a:t>
            </a: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an the student use the information in a new way?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lvl="1" marL="713160" indent="-274320">
              <a:spcBef>
                <a:spcPts val="601"/>
              </a:spcBef>
              <a:buClr>
                <a:srgbClr val="cc0000"/>
              </a:buClr>
              <a:buFont typeface="Chas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choose, demonstrate, dramatize, employ, illustrate, interpret, operate, schedule, sketch, solve, use, write.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Chas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hasm"/>
              </a:rPr>
              <a:t> </a:t>
            </a:r>
            <a:endParaRPr b="0" lang="en-US" sz="2400" spc="-1" strike="noStrike">
              <a:solidFill>
                <a:srgbClr val="cc0000"/>
              </a:solidFill>
              <a:latin typeface="Chas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0:05:58Z</dcterms:created>
  <dc:creator>Rosemary Parmigiani</dc:creator>
  <dc:description/>
  <dc:language>en-US</dc:language>
  <cp:lastModifiedBy>Rosemary Parmigiani</cp:lastModifiedBy>
  <dcterms:modified xsi:type="dcterms:W3CDTF">2010-08-30T02:35:50Z</dcterms:modified>
  <cp:revision>4</cp:revision>
  <dc:subject/>
  <dc:title>Session 2</dc:title>
</cp:coreProperties>
</file>